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9D5-97F1-4503-AD36-99EA9A37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DB6-E6A2-4B20-A4A4-DCCEBBC0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403-187A-410A-BB35-5CBF2287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6C04-0CD7-4275-9704-7782F32F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00A-ED38-4566-B192-49CA1B0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D98-E5E9-4F67-B19E-B938443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518-A8F7-4468-B0F8-49CB097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8C0-0C09-470C-967F-C75B2CB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A7E-4473-49EB-95CE-7914136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CBD-C49E-4C48-8E5F-9B852D0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6B2-99DD-4F02-9E12-AB01683A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BE0-1CAD-4479-8488-809E98B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F53-778B-4BAB-82A3-2E7CBC7F5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learnt how to look after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11Z</dcterms:created>
  <dc:creator>01690112</dc:creator>
  <dc:description/>
  <dc:language>en-US</dc:language>
  <cp:lastModifiedBy>01690112</cp:lastModifiedBy>
  <dcterms:modified xsi:type="dcterms:W3CDTF">2009-07-21T10:04:20Z</dcterms:modified>
  <cp:revision>1</cp:revision>
  <dc:subject/>
  <dc:title>We learnt how to look after pets.</dc:title>
</cp:coreProperties>
</file>